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733-9740-497F-826B-379A2267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968-C92E-4F3C-98DD-8BE79D41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DDF-0E1F-4B10-A13B-478DA273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C9F-386B-4CE6-BB21-8162D786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C38-4703-427F-81FF-FC3CA280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328-73CD-4156-89F0-BF37F72D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40E-323E-4FC2-9604-39217181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9F4-EC4B-4F1E-B136-C8AE354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ED3-C234-427B-B0BD-979EFE67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CA3-F2CD-4220-B0F8-6342408C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72E-56C0-4BFE-8F0A-2C26187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0CF-1C26-4798-914B-776FB3AD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9EAD-200E-4BB5-A63E-8D01ABD28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world like 4.5 billion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3.5 Billion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geology influence life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geography influence life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0:01:32Z</dcterms:created>
  <dc:creator>Tera Linn</dc:creator>
  <dc:description/>
  <dc:language>en-US</dc:language>
  <cp:lastModifiedBy>Tera Linn</cp:lastModifiedBy>
  <dcterms:modified xsi:type="dcterms:W3CDTF">2011-04-18T20:01:46Z</dcterms:modified>
  <cp:revision>1</cp:revision>
  <dc:subject/>
  <dc:title>Evolution</dc:title>
</cp:coreProperties>
</file>